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8510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31E-E60B-4A91-9475-03352150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1868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2C2-62D7-4424-B9EA-125DD485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72C-F9E1-4C76-BBEA-223396B3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8576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8576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1868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1868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18680"/>
            <a:ext cx="29440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9A4-E089-40A4-9E68-8099478A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85760"/>
            <a:ext cx="91440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388-C781-4D0C-9897-979A29D1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9144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1F8-E903-4877-8D7A-9BB0896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FFB-EBEF-4FBC-80D9-99C18B1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887-C952-4FBD-A845-3C5D9862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1280"/>
            <a:ext cx="91440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075-1A25-4F46-A239-9A22D1C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050-44FF-46B9-B6EB-92B5665B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1868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3EB-329C-476B-AD7D-0BE9CE0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85760"/>
            <a:ext cx="44622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1868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A88-4620-477C-B268-B3F0458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1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85760"/>
            <a:ext cx="9144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748640"/>
            <a:ext cx="23702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748640"/>
            <a:ext cx="32162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748640"/>
            <a:ext cx="23702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F1E9-9CC5-43A3-B14E-E6C41CBB8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2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- 48"/>
              </a:rPr>
              <a:t>Stomach Ca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36760" y="3936960"/>
            <a:ext cx="5156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By: Justin, Ty, and Patric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4080" y="2031840"/>
            <a:ext cx="87123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ccff"/>
                </a:solidFill>
                <a:latin typeface="Symbol - 35"/>
              </a:rPr>
              <a:t>·</a:t>
            </a:r>
            <a:r>
              <a:rPr b="0" lang="en-US" sz="3500" spc="-1" strike="noStrike">
                <a:solidFill>
                  <a:srgbClr val="00ccff"/>
                </a:solidFill>
                <a:latin typeface="Times New Roman - 35"/>
              </a:rPr>
              <a:t>Stomach cancer should not be confused with cancers of the colon (large intestine), liver, pancreas, or small intestine because these cancers may have different symptoms, a different outlook, and different treatments.</a:t>
            </a: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1040" y="800280"/>
            <a:ext cx="4241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- 36"/>
              </a:rPr>
              <a:t>Stomach Canc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59000" y="851040"/>
            <a:ext cx="734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 - 48"/>
              </a:rPr>
              <a:t>Some So-called Preven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54080" y="2031840"/>
            <a:ext cx="83818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Symbol - 35"/>
              </a:rPr>
              <a:t>·</a:t>
            </a:r>
            <a:r>
              <a:rPr b="0" lang="en-US" sz="3400" spc="-1" strike="noStrike">
                <a:solidFill>
                  <a:srgbClr val="ff0000"/>
                </a:solidFill>
                <a:latin typeface="Times New Roman - 35"/>
              </a:rPr>
              <a:t>It has been suggested that green tea has prevented gastric (stomach) adenocarcinoma, or cancer. It is the second leading cause of cancer death throughout the world; however, a recent study published in the New England Journal of Medicine did not confirm such theories of the Green Te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851040"/>
            <a:ext cx="444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- 48"/>
              </a:rPr>
              <a:t>Odds and Rat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54080" y="2031840"/>
            <a:ext cx="850896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Two out of 3 people that have stomach cancer are older than 65. The risk of getting stomach cancer is a 1 to 100 ratio, but there is a slightly higher prospect that men will get it than women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·21,130 new cases of stomach canc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5"/>
              </a:rPr>
              <a:t>·10,620 deaths from stomach canc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68760" y="851040"/>
            <a:ext cx="436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- 48"/>
              </a:rPr>
              <a:t>My Knowled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2880" y="1701720"/>
            <a:ext cx="853416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 - 36"/>
              </a:rPr>
              <a:t>·</a:t>
            </a: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It is also known that while smoking can cause lung cancer, it is also a leading cause in gastric (stomach) cancer. My aunt was only 39 when she diagnosed with gastric cancer, she was given treatments over a six month period, but it was no help. She died four days before her fortieth birthda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165240" y="165240"/>
          <a:ext cx="9656640" cy="68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65240"/>
                    <a:ext cx="965664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- 16"/>
              </a:rPr>
              <a:t>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3080" y="1409760"/>
            <a:ext cx="69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1. Gastric (Stomach) cancer affects the stomach.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Women are more likely to get Gastric cancer. 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The U.S. has more problems with Gastric cancer than other countr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Gastric cancer is deadly.</a:t>
            </a:r>
            <a:r>
              <a:rPr b="0" lang="en-US" sz="2800" spc="-1" strike="noStrike">
                <a:solidFill>
                  <a:srgbClr val="80008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 - 28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. There are many cases of Gastric cancer in the U.S.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 - 28"/>
              </a:rPr>
              <a:t>T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70080" y="635040"/>
            <a:ext cx="88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70080" y="127008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7:39:19Z</dcterms:created>
  <dc:creator>FCPS</dc:creator>
  <dc:description/>
  <dc:language>en-US</dc:language>
  <cp:lastModifiedBy>FCPS</cp:lastModifiedBy>
  <dcterms:modified xsi:type="dcterms:W3CDTF">2010-03-24T17:39:20Z</dcterms:modified>
  <cp:revision>1</cp:revision>
  <dc:subject/>
  <dc:title>Slide 1</dc:title>
</cp:coreProperties>
</file>